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A56B-9D05-4654-92EA-E133DEA1BA6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6EF8-2EEC-4679-B726-1E85440E12DF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1643-7F74-4A7E-BFDC-1DEE1885720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1CCF-F1D8-41DF-80F1-27074751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7422-4DE5-476D-9B61-48BEC716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9853-6F49-44AE-8EB8-803DA6A12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2589-9844-4598-84FF-9D5CE9881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A21D-73C0-4897-B994-02F0F5D9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6762-B520-4A29-9A51-F6ADD94B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CD49-4155-41CE-9129-82B6404A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1AB6-42A8-4934-9A36-8244DA45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2946-15E7-45B1-97E7-E375A534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9CCB-9B3C-4F4E-8D1C-AA7419DF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749B-43CC-4E86-B20A-D2DEE889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0012-7CE3-4680-9B70-E996C06B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B45E-0225-43B5-8603-D802942898F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그림 1" descr=""/>
          <p:cNvPicPr/>
          <p:nvPr/>
        </p:nvPicPr>
        <p:blipFill>
          <a:blip r:embed="rId1"/>
          <a:stretch/>
        </p:blipFill>
        <p:spPr>
          <a:xfrm>
            <a:off x="5880240" y="1225440"/>
            <a:ext cx="2477880" cy="4619880"/>
          </a:xfrm>
          <a:prstGeom prst="rect">
            <a:avLst/>
          </a:prstGeom>
          <a:ln w="0">
            <a:noFill/>
          </a:ln>
        </p:spPr>
      </p:pic>
      <p:pic>
        <p:nvPicPr>
          <p:cNvPr id="62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3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5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직사각형 29"/>
          <p:cNvSpPr/>
          <p:nvPr/>
        </p:nvSpPr>
        <p:spPr>
          <a:xfrm>
            <a:off x="0" y="422280"/>
            <a:ext cx="4406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9920" y="996840"/>
            <a:ext cx="4533840" cy="31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- 435*316*113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1.5</a:t>
            </a: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층 침대용 철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BODY : 15x35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20x20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사각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/ 1.6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직선 연결선 32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33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LADDER &lt;DIL3004B-1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인용 사다리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선 연결선 34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사각형 3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1:16Z</dcterms:modified>
  <cp:revision>254</cp:revision>
  <dc:subject/>
  <dc:title>슬라이드 1</dc:title>
</cp:coreProperties>
</file>