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D4DA-2EE6-4AE9-B796-A5A6E3E6D84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EAC9-726C-4453-BE5F-7DE92F62DBA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A1C7-F857-4FB1-965E-EE39C930F88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1D37-7BDC-44CC-9979-90FC4867707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F0FA-4CEC-4548-859D-DBD48840CDE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5C7C-3443-4E97-BA89-8C19BEA6E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1EC6-1CDC-4B44-84C3-A548D072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0DB6-4490-4470-815C-E3A431BA7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DA4B-BECD-4DAB-A5A7-55BF6D73E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031A-166E-4ACB-92E9-CAAA54A8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7194-4D37-4CD3-B096-D24426E6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D71A-6628-4B8B-A80E-7F66F719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392B-BC9D-4927-A338-BCC11488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34D6-66FB-4C71-85CD-3D10443F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94EF-AC0F-4205-B8D2-83710375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204A-E6CA-46D4-842A-87FF3960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8403-BAFD-49E0-80D6-693ACEE5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2444-DAB7-4D78-B125-0619A4584C78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pic>
        <p:nvPicPr>
          <p:cNvPr id="56" name="그림 10" descr="color.jpg"/>
          <p:cNvPicPr/>
          <p:nvPr/>
        </p:nvPicPr>
        <p:blipFill>
          <a:blip r:embed="rId4"/>
          <a:stretch/>
        </p:blipFill>
        <p:spPr>
          <a:xfrm>
            <a:off x="284040" y="561960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32"/>
          <p:cNvSpPr/>
          <p:nvPr/>
        </p:nvSpPr>
        <p:spPr>
          <a:xfrm>
            <a:off x="4589640" y="422280"/>
            <a:ext cx="18072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69920" y="996840"/>
            <a:ext cx="453384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435*270*1308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용 철재 사다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/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된 철재 사다리 사용으로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 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BODY : 15x30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5x35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  상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5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7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Picture 12" descr="\\s098\2009자료관리\02.정제품 사진\교육용\기숙사가구\3000G\단품\DIL3004.jpg"/>
          <p:cNvPicPr/>
          <p:nvPr/>
        </p:nvPicPr>
        <p:blipFill>
          <a:blip r:embed="rId3"/>
          <a:srcRect l="13764" t="1938" r="17245" b="139"/>
          <a:stretch/>
        </p:blipFill>
        <p:spPr>
          <a:xfrm>
            <a:off x="6135840" y="1160640"/>
            <a:ext cx="1915920" cy="479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4"/>
          <a:stretch/>
        </p:blipFill>
        <p:spPr>
          <a:xfrm>
            <a:off x="282600" y="4410000"/>
            <a:ext cx="558720" cy="558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71" name="직선 연결선 35"/>
          <p:cNvSpPr/>
          <p:nvPr/>
        </p:nvSpPr>
        <p:spPr>
          <a:xfrm>
            <a:off x="169920" y="48096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직사각형 36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ADDER &lt;DIL3004-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 사다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직선 연결선 38"/>
          <p:cNvSpPr/>
          <p:nvPr/>
        </p:nvSpPr>
        <p:spPr>
          <a:xfrm>
            <a:off x="90360" y="831960"/>
            <a:ext cx="41878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4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51"/>
          <p:cNvSpPr/>
          <p:nvPr/>
        </p:nvSpPr>
        <p:spPr>
          <a:xfrm>
            <a:off x="814320" y="4710240"/>
            <a:ext cx="20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한국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AID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IN UP DESIGN AWARDS 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7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8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88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2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94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3:14Z</dcterms:modified>
  <cp:revision>250</cp:revision>
  <dc:subject/>
  <dc:title>슬라이드 1</dc:title>
</cp:coreProperties>
</file>